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900-6C07-45E0-A3AD-278574A0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5A5-310B-452D-8D33-9B08926A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389A-B760-4D92-B7C4-3E4A431E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019-5E33-4C86-A909-EBBB2991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7B37-D562-4DFB-A5D9-6E9AFCFE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A34B-A839-4271-964A-39859B9E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57DD-2D54-484F-A4C3-D80D0F30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B3B9-E3EE-432E-9B96-EE7AB7FE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A7FE-2DD3-4986-B0C4-5465E4F5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F623-8A2E-4FF4-A488-7F0C7F72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BB67-15B0-4BD0-ACA4-3E6E0F7E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7AB5-58C1-4F21-91F2-F8020724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36A8-8D79-4C22-81BD-5C0ED46D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5EF0-F595-40D3-9EEC-1DA87F5F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7B66-0339-44FA-A9B3-DC1B0866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19EE-94DC-484E-9AC0-1E099C67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2D86-6861-43C0-A712-8EC1D94E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68C-B011-40D0-A8F5-DCBB61A7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777-8542-42D9-B0A7-364C29DE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E4F-5FD5-4BAD-9FA0-B9629876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23F-1583-40E7-B890-2DCAC172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798-7DF0-4761-894A-2E1AC8B7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DC4-AF7B-48C4-85AB-0847F91C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72F-7C59-4C45-BA19-90FF2677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D1EA-E7F7-441F-842A-BFA2F43AB4A6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509A-4EC1-4327-BF8E-A4B8BCD3DDCD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ealthy.net/asp/Ads.asp?Ad=821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fetyprograms.org/images/FA-462.gif&amp;imgrefurl=http://www.safetyprograms.org/fasurvival.html&amp;h=318&amp;w=400&amp;sz=30&amp;tbnid=Kv61i2HDp00J:&amp;tbnh=95&amp;tbnw=119&amp;start=150&amp;prev=/images%3Fq%3Dfirst%2Baid%26start%3D140%26hl%3Dzh-CN%26lr%3D%26ie%3DUTF-8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wrworkings.com/first%2520aid%25202.jpg&amp;imgrefurl=http://www.jwrworkings.com/minerescue.html&amp;h=444&amp;w=576&amp;sz=25&amp;tbnid=blPHrDl0EWkJ:&amp;tbnh=101&amp;tbnw=131&amp;start=5&amp;prev=/images%3Fq%3Dfirst%2Baid%26hl%3Dzh-CN%26lr%3D%26ie%3DUTF-8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DEALING WITH COMMON INJURI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First%20Aid%20CD" descr=""/>
          <p:cNvPicPr/>
          <p:nvPr/>
        </p:nvPicPr>
        <p:blipFill>
          <a:blip r:embed="rId1"/>
          <a:srcRect l="19904" t="19067" r="7909" b="32039"/>
          <a:stretch/>
        </p:blipFill>
        <p:spPr>
          <a:xfrm>
            <a:off x="2514600" y="190512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210" name="PH_Lark_120x600" descr="Susan">
            <a:hlinkClick r:id="rId2"/>
          </p:cNvPr>
          <p:cNvPicPr/>
          <p:nvPr/>
        </p:nvPicPr>
        <p:blipFill>
          <a:blip r:embed="rId3"/>
          <a:srcRect l="0" t="0" r="0" b="75559"/>
          <a:stretch/>
        </p:blipFill>
        <p:spPr>
          <a:xfrm>
            <a:off x="228600" y="2286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53010Ml" descr=""/>
          <p:cNvPicPr/>
          <p:nvPr/>
        </p:nvPicPr>
        <p:blipFill>
          <a:blip r:embed="rId4"/>
          <a:stretch/>
        </p:blipFill>
        <p:spPr>
          <a:xfrm>
            <a:off x="5029200" y="1981080"/>
            <a:ext cx="3238560" cy="2373480"/>
          </a:xfrm>
          <a:prstGeom prst="rect">
            <a:avLst/>
          </a:prstGeom>
          <a:ln w="0">
            <a:noFill/>
          </a:ln>
        </p:spPr>
      </p:pic>
      <p:pic>
        <p:nvPicPr>
          <p:cNvPr id="212" name="2001%20first%20aid%20Sarah%20S_jpg_jpg" descr=""/>
          <p:cNvPicPr/>
          <p:nvPr/>
        </p:nvPicPr>
        <p:blipFill>
          <a:blip r:embed="rId5"/>
          <a:srcRect l="0" t="0" r="27147" b="0"/>
          <a:stretch/>
        </p:blipFill>
        <p:spPr>
          <a:xfrm>
            <a:off x="1219320" y="3733920"/>
            <a:ext cx="1981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rite a paragraph in which you tell your friend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give first aid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 Choose one of the accidents from the reading reading passage or from daily lif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accid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(basic step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ips to rememb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352680"/>
            <a:ext cx="335268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/The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6576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  <a:ea typeface="GungsuhChe"/>
              </a:rPr>
              <a:t>Task 2   Making a first-aid ki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3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well-stocked first-aid kit, kept in easy reach, is necessary in every home. It should includ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first-aid kit is a box or bag of useful items and information that may be helpful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in case of emergency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6360" y="238752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band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soap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373392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sharp scisso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9960" y="3048120"/>
            <a:ext cx="28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thermome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7360" y="4495680"/>
            <a:ext cx="48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plastic gloves (at least 2 pair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048120"/>
            <a:ext cx="17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flashligh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38752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your list of emergency phone numb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delux-first-aid-kit" descr=""/>
          <p:cNvPicPr/>
          <p:nvPr/>
        </p:nvPicPr>
        <p:blipFill>
          <a:blip r:embed="rId1"/>
          <a:srcRect l="9999" t="0" r="7498" b="0"/>
          <a:stretch/>
        </p:blipFill>
        <p:spPr>
          <a:xfrm>
            <a:off x="6337440" y="2286000"/>
            <a:ext cx="257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685800"/>
            <a:ext cx="8610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lation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果我们在家发现有人胳膊严重被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切伤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或砍伤怎  么办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首先我们必须尽量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止住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然后为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找医生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不能抬起或动他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我们必须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小孩子误食毒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你作为家长，应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确保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电线食安全的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丧失知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，我们该马上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叫救护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吗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49280" y="763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2122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9200" y="2286000"/>
            <a:ext cx="64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www.healthy.net/clinic/firstaid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5335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f you want more tips about first aids and ways to deal with common injuries, refer to the following websi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5560" y="33526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kidshealth.org/parent/firstaid_safe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6280" y="42670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mi.essortment.com/firstaid_rfrg.ht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4480" y="54100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http://www.emedicinehealth.com/articles/25936-7.as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What are common injurie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52388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Common injuries are accidents that easily happen at home. We may not be able to prevent them from happening, but everyone should know what to do if an accident happens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GungsuhChe"/>
                <a:ea typeface="GungsuhChe"/>
                <a:hlinkClick r:id="rId1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0763713228" descr=""/>
          <p:cNvPicPr/>
          <p:nvPr/>
        </p:nvPicPr>
        <p:blipFill>
          <a:blip r:embed="rId2"/>
          <a:srcRect l="7616" t="63636" r="50268" b="12282"/>
          <a:stretch/>
        </p:blipFill>
        <p:spPr>
          <a:xfrm>
            <a:off x="533520" y="48006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038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s" descr="">
            <a:hlinkClick r:id="rId5"/>
          </p:cNvPr>
          <p:cNvPicPr/>
          <p:nvPr/>
        </p:nvPicPr>
        <p:blipFill>
          <a:blip r:embed="rId6"/>
          <a:srcRect l="0" t="0" r="0" b="20842"/>
          <a:stretch/>
        </p:blipFill>
        <p:spPr>
          <a:xfrm>
            <a:off x="5638680" y="3657600"/>
            <a:ext cx="271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canning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many kinds of common injuries are mentioned in this passage?               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0080" y="304812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17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2240" y="198108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Do you know their Chinese meaning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</a:rPr>
              <a:t>Task 1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You are a doctor ,tell your classmate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al with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 these 4 common inju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477120" y="5257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81" h="21600">
                <a:moveTo>
                  <a:pt x="22684" y="3794"/>
                </a:moveTo>
                <a:lnTo>
                  <a:pt x="36697" y="10800"/>
                </a:lnTo>
                <a:lnTo>
                  <a:pt x="2268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5146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Now please finish the following t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img_collage" descr=""/>
          <p:cNvPicPr/>
          <p:nvPr/>
        </p:nvPicPr>
        <p:blipFill>
          <a:blip r:embed="rId1"/>
          <a:srcRect l="33662" t="0" r="44525" b="0"/>
          <a:stretch/>
        </p:blipFill>
        <p:spPr>
          <a:xfrm>
            <a:off x="2362320" y="3505320"/>
            <a:ext cx="1644480" cy="1676160"/>
          </a:xfrm>
          <a:prstGeom prst="rect">
            <a:avLst/>
          </a:prstGeom>
          <a:ln w="0">
            <a:noFill/>
          </a:ln>
        </p:spPr>
      </p:pic>
      <p:pic>
        <p:nvPicPr>
          <p:cNvPr id="231" name="img_collage" descr=""/>
          <p:cNvPicPr/>
          <p:nvPr/>
        </p:nvPicPr>
        <p:blipFill>
          <a:blip r:embed="rId2"/>
          <a:srcRect l="77305" t="0" r="2887" b="0"/>
          <a:stretch/>
        </p:blipFill>
        <p:spPr>
          <a:xfrm>
            <a:off x="3962520" y="2743200"/>
            <a:ext cx="1676160" cy="1882800"/>
          </a:xfrm>
          <a:prstGeom prst="rect">
            <a:avLst/>
          </a:prstGeom>
          <a:ln w="0">
            <a:noFill/>
          </a:ln>
        </p:spPr>
      </p:pic>
      <p:pic>
        <p:nvPicPr>
          <p:cNvPr id="232" name="img_collage" descr=""/>
          <p:cNvPicPr/>
          <p:nvPr/>
        </p:nvPicPr>
        <p:blipFill>
          <a:blip r:embed="rId3"/>
          <a:srcRect l="0" t="0" r="81307" b="0"/>
          <a:stretch/>
        </p:blipFill>
        <p:spPr>
          <a:xfrm>
            <a:off x="709560" y="4038480"/>
            <a:ext cx="1665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38280" y="-76320"/>
            <a:ext cx="3200400" cy="8384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76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65000"/>
            <a:ext cx="228600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6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62864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349360"/>
            <a:ext cx="226836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349360"/>
            <a:ext cx="21607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349360"/>
            <a:ext cx="223200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49360"/>
            <a:ext cx="248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cold running wa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doctor as soon as poss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349360"/>
            <a:ext cx="230328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ol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under the cold ta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bandag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/ clean clo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 doctor if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276640"/>
            <a:ext cx="244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cu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ry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with a piece of dry clean clot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p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2349360"/>
            <a:ext cx="20509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5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4360" y="90792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349360"/>
            <a:ext cx="212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Get him or her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reath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pit out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ll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ambul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arch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y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372360" y="2349360"/>
            <a:ext cx="2233440" cy="33847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6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Verdana"/>
              </a:rPr>
              <a:t>APPLIC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14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should you do in the following situation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47920"/>
            <a:ext cx="59403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1 Your little brother  i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itten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by a big do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2 Your mother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urned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erself while she was cooking for you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3 You found your classmate with a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knife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n his le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4.You found a person who    ha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topped breathing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5. You found a gir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conscious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on the beach of the pa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852640"/>
            <a:ext cx="288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hir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Other 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How to deal with nose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7524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y cal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the through the mouth, not the no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t up and bend the head slightly forwar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nostri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鼻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ut using a thumb and forefin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t out any blood that collects in the mo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images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33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3880"/>
            <a:ext cx="8915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l the burnt area with clean towels dipp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 in a cool, quiet room. Find a comfortable posi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nk plenty of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sunglasses on and cover sunburned skin when you go in the sun again so you don't get burned mo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Sunbur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images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914400"/>
            <a:ext cx="617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57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h your han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ist a piece of tiss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isten the tip with tap water, and gently try to touch it with the tip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foreign object is under the upper l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眼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down and pull the upper lid away from the eyeball by gently grabbing the eyelash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睫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ru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y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tly wash the eye with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040" y="304920"/>
            <a:ext cx="695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To remove a foreign object </a:t>
            </a:r>
            <a:r>
              <a:rPr b="0" lang="zh-CN" sz="2800" spc="-1" strike="noStrike" u="sng">
                <a:solidFill>
                  <a:srgbClr val="40458c"/>
                </a:solidFill>
                <a:uFillTx/>
                <a:latin typeface="Arial"/>
              </a:rPr>
              <a:t>异物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in the ey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7:24:41Z</dcterms:modified>
  <cp:revision>7</cp:revision>
  <dc:subject/>
  <dc:title>PowerPoint Presentation</dc:title>
</cp:coreProperties>
</file>